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1AFF-AFAC-4BC2-983E-EB04F9FF65E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31DC-096C-4AAD-9157-4821D9D4B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CFC7-3A5F-4DA1-A697-4EE44D746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010FA-B63E-462C-A657-0DB8B11BE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71070-EB57-437C-B185-C5E891E9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6D05F-3A42-49A8-B40D-91D0C05B3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7DC8B-CC37-49C9-AAE5-6D2CDC42D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52912-3E66-438F-94BF-F849FD903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CA55-0C07-4918-AF9A-34C0BE80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3BC68-A846-4CCB-B7A7-8A162B61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0557-0AA6-4D17-A8CC-1BFEE655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C054-7E70-459A-9A49-1088C493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0BC28-B53F-43D5-8F78-EBA2A206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1DC0-74A0-49D4-8C68-3ED0E03B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E753-CF06-412D-A05A-534A69842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49BF-9AC5-4EDC-BC43-9D2B81380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 Man who Changed a Nation: Ben Franklin’s Postal Service</a:t>
            </a: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Evan Cohen</a:t>
            </a:r>
            <a:endParaRPr b="0" lang="en-US" sz="3200" spc="-1" strike="noStrike">
              <a:solidFill>
                <a:srgbClr val="000000"/>
              </a:solidFill>
              <a:latin typeface="Arial"/>
            </a:endParaRPr>
          </a:p>
        </p:txBody>
      </p:sp>
      <p:pic>
        <p:nvPicPr>
          <p:cNvPr id="51" name="j0214098.wav" descr=""/>
          <p:cNvPicPr/>
          <p:nvPr/>
        </p:nvPicPr>
        <p:blipFill>
          <a:blip r:embed="rId2"/>
          <a:stretch/>
        </p:blipFill>
        <p:spPr>
          <a:xfrm>
            <a:off x="80010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4525920"/>
          </a:xfrm>
          <a:prstGeom prst="rect">
            <a:avLst/>
          </a:prstGeom>
          <a:ln w="0">
            <a:noFill/>
          </a:ln>
        </p:spPr>
      </p:pic>
      <p:pic>
        <p:nvPicPr>
          <p:cNvPr id="79" name="Picture 3" descr=""/>
          <p:cNvPicPr/>
          <p:nvPr/>
        </p:nvPicPr>
        <p:blipFill>
          <a:blip r:embed="rId2"/>
          <a:stretch/>
        </p:blipFill>
        <p:spPr>
          <a:xfrm>
            <a:off x="0" y="0"/>
            <a:ext cx="9448920" cy="683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ding the Patriot Cause</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ithout these improvements to the postal system many important messages may not have been received such a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n Franklin’s Political “Join or Die” carto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ssages referring to taxes in Bost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ionalism</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project relates to the theme of nationalism because without the changes to the postal system many messages referring to Patriot cause may not have been received causing the revolution to be less power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ive:</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udents should be able to list at least 2 changes Ben Franklin made to the U.S. postal system</a:t>
            </a:r>
            <a:endParaRPr b="0" lang="en-US" sz="3200" spc="-1" strike="noStrike">
              <a:solidFill>
                <a:srgbClr val="000000"/>
              </a:solidFill>
              <a:latin typeface="Arial"/>
            </a:endParaRPr>
          </a:p>
        </p:txBody>
      </p:sp>
      <p:pic>
        <p:nvPicPr>
          <p:cNvPr id="55" name="MS900437881[1].wav" descr=""/>
          <p:cNvPicPr/>
          <p:nvPr/>
        </p:nvPicPr>
        <p:blipFill>
          <a:blip r:embed="rId2"/>
          <a:stretch/>
        </p:blipFill>
        <p:spPr>
          <a:xfrm>
            <a:off x="84582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5706"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l Service before Frankli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639 was the first year that any note of a postal system would arise in the united stat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main overseas post office was located at Richard Fairbanks’ Taver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stal service before Frankli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would take as much as 14 days for a letter to travel as little as 2 close by citie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would take as long as several months for oversea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st of the time letters would not reach their overseas destination.</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riters would make as much as much as five copies of a letter to guarantee it would reach the destin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rial"/>
              </a:rPr>
              <a:t>Postal Service Before Franklin Cont’d</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riters would use several ships so their letter would reach their destinati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outes for letters to travel were not well thought-ou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stmen were friends, slaves, sailors or other travel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re were no actual post off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n Franklin’s change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1737 a man by the name of Benjamin Franklin who had the role as Postmaster of Philadelphia began to make much needed improveme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 started with creating direct routes between each colon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n Franklin’s changes Cont’d</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 make the delivery extra fast between the two major cities of New York and Philadelphia he made the mail wagon travel through the night as well as the da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so, he created the first postal rate system to be used by most postal services which list the shipping charge via weigh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come of Franklin’s change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klin’s changes are a huge success</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t only letters but newspapers such as Ben Franklin’s Pennsylvania gazette allowing much more people to be up to date with the news</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arned him the title of “Father of the U.S. Postal System”</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 is the symbol of our postal servic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5" name="" descr=""/>
          <p:cNvPicPr/>
          <p:nvPr/>
        </p:nvPicPr>
        <p:blipFill>
          <a:blip r:embed="rId1"/>
          <a:stretch/>
        </p:blipFill>
        <p:spPr>
          <a:xfrm>
            <a:off x="457200" y="1600200"/>
            <a:ext cx="8229600" cy="4525920"/>
          </a:xfrm>
          <a:prstGeom prst="rect">
            <a:avLst/>
          </a:prstGeom>
          <a:ln w="0">
            <a:noFill/>
          </a:ln>
        </p:spPr>
      </p:pic>
      <p:pic>
        <p:nvPicPr>
          <p:cNvPr id="76" name="Picture 4" descr=""/>
          <p:cNvPicPr/>
          <p:nvPr/>
        </p:nvPicPr>
        <p:blipFill>
          <a:blip r:embed="rId2"/>
          <a:stretch/>
        </p:blipFill>
        <p:spPr>
          <a:xfrm>
            <a:off x="152280" y="-9575640"/>
            <a:ext cx="10211040" cy="164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22:37:22Z</dcterms:created>
  <dc:creator>Mount Lebanon School District</dc:creator>
  <dc:description/>
  <dc:language>en-US</dc:language>
  <cp:lastModifiedBy>nstarzynski</cp:lastModifiedBy>
  <dcterms:modified xsi:type="dcterms:W3CDTF">2011-04-13T14:23:11Z</dcterms:modified>
  <cp:revision>10</cp:revision>
  <dc:subject/>
  <dc:title>A Man who Changed a Nation: Ben Franklins Postal Service</dc:title>
</cp:coreProperties>
</file>